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0.gif" ContentType="image/gif"/>
  <Override PartName="/ppt/media/image9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C073-F60C-4620-B28B-53FE1A74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509B-A2B9-475D-81F0-5A5642A3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AE22-4130-4B3E-B399-BDFF3AD6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F618-8235-48E0-B99D-C2235893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9AA-3568-4451-A49A-E80FEC9A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9A46-AEEC-4751-845B-58958FEE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6D36-54C6-4FB6-9487-AA4E3E79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D05-64A3-45E6-84D9-C651721A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F036-3EA7-49C7-93A0-30949DD5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395F-9FEA-4078-BA54-C58C89DA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8CF5-7F1A-40B5-8727-59EAC6FC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BD4C-DAA8-45F4-9E8E-096AC006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518D5-E885-473F-85EC-57412591B3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24000" y="2340000"/>
            <a:ext cx="8209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вайте познакомимся!</a:t>
            </a:r>
            <a:endParaRPr b="1" i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745080" y="4716360"/>
            <a:ext cx="4103640" cy="23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 работы 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мецкого языка МОУ ООШ с.Ари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мелева И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02920" y="1042560"/>
            <a:ext cx="9069480" cy="57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 rot="21361200">
            <a:off x="863280" y="2109600"/>
            <a:ext cx="8475480" cy="33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5088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uf Wiedersehen!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6036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1440" y="1835280"/>
            <a:ext cx="2066760" cy="2520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672000" y="4500720"/>
            <a:ext cx="3520800" cy="2641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9288360" y="6659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1895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02920" y="610920"/>
            <a:ext cx="9070920" cy="61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60720" y="1187280"/>
            <a:ext cx="6059520" cy="4848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712360" y="6875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690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02920" y="611280"/>
            <a:ext cx="9069480" cy="614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440000" y="684360"/>
            <a:ext cx="2458800" cy="2950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048360" y="1835280"/>
            <a:ext cx="2435400" cy="3744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53440" y="6875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2538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02920" y="684000"/>
            <a:ext cx="90694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160720" y="395280"/>
            <a:ext cx="5715000" cy="5952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8496360" y="6804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20605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02920" y="611280"/>
            <a:ext cx="9069480" cy="614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19280" y="1187280"/>
            <a:ext cx="4357800" cy="4824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209080" y="6948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796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02920" y="539280"/>
            <a:ext cx="9069480" cy="621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68360" y="1763640"/>
            <a:ext cx="1008000" cy="15112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36720" y="3419640"/>
            <a:ext cx="1224000" cy="2016000"/>
          </a:xfrm>
          <a:prstGeom prst="ellipse">
            <a:avLst/>
          </a:prstGeom>
          <a:solidFill>
            <a:srgbClr val="ec14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E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03640" y="1692360"/>
            <a:ext cx="1008000" cy="1582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04000" y="3708360"/>
            <a:ext cx="936360" cy="172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136000" y="1763640"/>
            <a:ext cx="1008000" cy="1728720"/>
          </a:xfrm>
          <a:prstGeom prst="ellipse">
            <a:avLst/>
          </a:prstGeom>
          <a:solidFill>
            <a:srgbClr val="f32e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U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68360" y="4211640"/>
            <a:ext cx="287280" cy="9367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00360" y="4716360"/>
            <a:ext cx="431640" cy="719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48360" y="2124000"/>
            <a:ext cx="504720" cy="863640"/>
          </a:xfrm>
          <a:prstGeom prst="ellipse">
            <a:avLst/>
          </a:prstGeom>
          <a:solidFill>
            <a:srgbClr val="29f2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68720" y="5508720"/>
            <a:ext cx="358920" cy="6476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20000" y="4716360"/>
            <a:ext cx="360360" cy="10080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424720" y="6875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39048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ишем бук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gency FB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76360" y="1476360"/>
            <a:ext cx="2376360" cy="1685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511280" y="4427640"/>
            <a:ext cx="2446200" cy="1735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960720" y="2050920"/>
            <a:ext cx="2089080" cy="1482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184720" y="4356000"/>
            <a:ext cx="2448000" cy="1735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6912000" y="1619280"/>
            <a:ext cx="2376360" cy="1685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8000"/>
                            </p:stCondLst>
                            <p:childTnLst>
                              <p:par>
                                <p:cTn id="1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236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ведем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Мы научились здороваться по-немецки и называть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Мы разучили немецкую считалку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,E,I,O,U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Мы научились писать первые немецкие буквы. Как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Мы умеем теперь прощаться по-немец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225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225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375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275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471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631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815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6:10:44Z</dcterms:created>
  <dc:creator/>
  <dc:description/>
  <dc:language>en-US</dc:language>
  <cp:lastModifiedBy>ирина</cp:lastModifiedBy>
  <dcterms:modified xsi:type="dcterms:W3CDTF">2011-09-12T19:06:50Z</dcterms:modified>
  <cp:revision>3</cp:revision>
  <dc:subject/>
  <dc:title>Слайд 1</dc:title>
</cp:coreProperties>
</file>